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26F-F068-4B12-BDB2-BB0E6453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0F7-D5D4-4A18-910E-97787FE2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5E7-77A6-415C-9FF1-DD7A8B5B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A9F-2AA7-46A0-B007-A552AB79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2E1-AC72-466D-A6E5-E622905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2AD-641C-4447-84ED-20095774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FC5-FB9C-4B59-B45A-389DE6C5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B24-BA37-43E2-B01E-20BE8CF3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2F5-A570-4870-88A7-17334712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FB0-96EC-4529-84BF-12A06410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D76-F35A-4CD6-9A65-D752B60F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481-A3C1-4F74-983D-6CBDB087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C310-94E9-471A-97DC-623C2E8B3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4 Tam na golgotsk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ýšiná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a golgotských výšiná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preveľký div s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a nás hriešnych Spasi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zomier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a Golgote zjavil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lásky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tejto láske uver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bude 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z ľudí môže pochop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ytrpel n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k trónu slávy otvor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cestu doko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a Golgote zjavil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lásky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tejto láske uver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bude 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ás on zomrel, prijal tr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aše prečiny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lh za nás splatil na krí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aránok nevin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a Golgote zjavil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lásky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tejto láske uver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bude 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ť žiadny človek nezdol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mnoho bolo sná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slávny Víťaz, príbyto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dá nám v nebesi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a Golgote zjavil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lásky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tejto láske uver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bude večne s ní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5:21Z</dcterms:modified>
  <cp:revision>31</cp:revision>
  <dc:subject/>
  <dc:title>Je veľký náš Pán, on slávy je Kráľ Nech do všetkých strán  spev vrúcnych znie chvál.</dc:title>
</cp:coreProperties>
</file>